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1EB-D85B-4700-8430-A172ACCB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7F3-9E5C-4F0D-8992-95D04BD6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AD8-B921-4683-91A5-29986381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952-0E9D-49E3-B9CC-CFA31B6A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475-EADB-46CD-A10A-E5201CFA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8B2E-6E55-469B-B1C4-B8FFC425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CF5A-15D0-470A-8905-DD07101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6C0-C07B-4CFA-9E14-37A3F7CA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FDF8-3596-4F9F-804F-461C064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A4F-7C29-4DA5-AE85-FA402E4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03C2-4EB7-43E8-86D4-C147C94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9E7-524A-43EE-BC61-886DED5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35ED-AC66-41A6-A1C6-612A4F5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E105-71AA-44B8-B4C0-13BF3FE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59DF-20E3-4BFF-BDF2-836360E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74F8-6F7C-43BE-B6AB-20288CDB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3480-AFEB-42F8-9F8E-14CCB7E5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DD9-30E3-43FE-BACF-3194D451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6C4-9381-45E1-874F-26F3EA02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D5C-A6F3-4FD8-ADD0-EB1F050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E8A-0A9D-463A-97A7-7EB32FD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BE1-ABEC-4D9A-8DA9-6D593AE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022-4517-4F75-89BB-64123509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8BD-E669-4C69-AECE-9F645E6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E979-B299-4115-B122-CC7797CCC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68B-8E63-4D64-8FCC-4B9AE6B86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ONTRASTNA SREDSTVA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2549520"/>
            <a:ext cx="84582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ONVENCIONALNA RADIOLOG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NETNA REZONAN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LTRAZVU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 DIJAGNOS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Lita-Leriche slika1"/>
          <p:cNvPicPr/>
          <p:nvPr/>
        </p:nvPicPr>
        <p:blipFill>
          <a:blip r:embed="rId1"/>
          <a:stretch/>
        </p:blipFill>
        <p:spPr>
          <a:xfrm>
            <a:off x="4648320" y="685800"/>
            <a:ext cx="4230720" cy="541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ar III"/>
          <p:cNvPicPr/>
          <p:nvPr/>
        </p:nvPicPr>
        <p:blipFill>
          <a:blip r:embed="rId2"/>
          <a:stretch/>
        </p:blipFill>
        <p:spPr>
          <a:xfrm>
            <a:off x="457200" y="685800"/>
            <a:ext cx="406404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572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ografija – AR 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52880" y="6019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ograf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0001"/>
          <p:cNvPicPr/>
          <p:nvPr/>
        </p:nvPicPr>
        <p:blipFill>
          <a:blip r:embed="rId1"/>
          <a:stretch/>
        </p:blipFill>
        <p:spPr>
          <a:xfrm>
            <a:off x="4114800" y="380880"/>
            <a:ext cx="4572000" cy="609624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1143000" y="2286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venska urograf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AAA 2a"/>
          <p:cNvPicPr/>
          <p:nvPr/>
        </p:nvPicPr>
        <p:blipFill>
          <a:blip r:embed="rId1"/>
          <a:stretch/>
        </p:blipFill>
        <p:spPr>
          <a:xfrm>
            <a:off x="457200" y="3733920"/>
            <a:ext cx="391464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AAA 1"/>
          <p:cNvPicPr/>
          <p:nvPr/>
        </p:nvPicPr>
        <p:blipFill>
          <a:blip r:embed="rId2"/>
          <a:stretch/>
        </p:blipFill>
        <p:spPr>
          <a:xfrm>
            <a:off x="457200" y="533520"/>
            <a:ext cx="4495680" cy="310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AA 2"/>
          <p:cNvPicPr/>
          <p:nvPr/>
        </p:nvPicPr>
        <p:blipFill>
          <a:blip r:embed="rId3"/>
          <a:stretch/>
        </p:blipFill>
        <p:spPr>
          <a:xfrm>
            <a:off x="5067360" y="533520"/>
            <a:ext cx="3822480" cy="5943600"/>
          </a:xfrm>
          <a:prstGeom prst="rect">
            <a:avLst/>
          </a:prstGeom>
          <a:ln w="0">
            <a:noFill/>
          </a:ln>
        </p:spPr>
      </p:pic>
      <p:sp>
        <p:nvSpPr>
          <p:cNvPr id="142" name="Line 9"/>
          <p:cNvSpPr/>
          <p:nvPr/>
        </p:nvSpPr>
        <p:spPr>
          <a:xfrm>
            <a:off x="5334120" y="4572000"/>
            <a:ext cx="533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2514240" y="3124080"/>
            <a:ext cx="609480" cy="13716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209680" y="228600"/>
            <a:ext cx="52578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eurizma abdominalne a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dis"/>
          <p:cNvPicPr/>
          <p:nvPr/>
        </p:nvPicPr>
        <p:blipFill>
          <a:blip r:embed="rId1"/>
          <a:stretch/>
        </p:blipFill>
        <p:spPr>
          <a:xfrm>
            <a:off x="2819520" y="2990880"/>
            <a:ext cx="5994360" cy="3554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46" name="Picture 5" descr="disekc"/>
          <p:cNvPicPr/>
          <p:nvPr/>
        </p:nvPicPr>
        <p:blipFill>
          <a:blip r:embed="rId2"/>
          <a:stretch/>
        </p:blipFill>
        <p:spPr>
          <a:xfrm>
            <a:off x="228600" y="434880"/>
            <a:ext cx="4572000" cy="34909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5562720" y="685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kcija a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Hepatotropna kontrastna sredstv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eroralna holegrafska 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travenska holegrafska 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travenski način prim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ezivanje za albumine plazme. Molekularni kompleksi ne prolaze glomer. membranu, zbog veličine. Duže zadrzavanje u krvotok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ezivanjem za prenosioce (Y i Z belačevine) KS dospeva do hepatoc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 protoplazmi hepatocita, veza KS sa glukonskom kiselinom, u prisustvu glukuronil-transfera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lučivanje preko žuč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692520" cy="563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PICT0002"/>
          <p:cNvPicPr/>
          <p:nvPr/>
        </p:nvPicPr>
        <p:blipFill>
          <a:blip r:embed="rId2"/>
          <a:stretch/>
        </p:blipFill>
        <p:spPr>
          <a:xfrm>
            <a:off x="4438800" y="457200"/>
            <a:ext cx="4228920" cy="5638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45720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ralna holangioholecistograf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572000" y="6186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avenka holangiograf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648240" cy="430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03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5410440" cy="479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799080" cy="52768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762120" y="5410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kutana holangiograf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Kontrastna sredstva za M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S sadrže paramagnente jone koji pojačavaju protonsku relaksaciju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→ pojačanje intenzitet kontra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Jonska / nejonska KS. Kao kontrastninjon sadrže Gadolinijum ili magnentni fero oksi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Primena intravenska, izlučivanje preko bubre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Tumori mozga, multipla skleroza, apscesi, AV malformacije, aneurizme, pregled orb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Gadolinijum: tumori jetre i karli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Magnentni fero oksid: maligni limfomi slezin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Kontrastna sredstva u ultrazvučnoj dijagnost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S u UZ dijagnstici se služe efektima koje stvaraju sitni mehurići gasa u rastv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plikacija KS: intravenski ili intrakardijal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Neželjene reakcije posle primene kontrastnih sredstava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109520"/>
          <a:ext cx="8305920" cy="43768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ke reakcije 5-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rednje reakcije 0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eške reakcije 0.0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čn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sves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la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ko povraća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ko povraća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ubitak sve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ećaj vruć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uzna urtikar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ućni ed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kalna urtikar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onhospaz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rčani ar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oje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ne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arkt miokar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ledi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htav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itm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gzantem/svr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l u grudi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ijan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ka glavobol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Rectangle 100"/>
          <p:cNvSpPr/>
          <p:nvPr/>
        </p:nvSpPr>
        <p:spPr>
          <a:xfrm>
            <a:off x="228600" y="5638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1. Imunoaleregijsko dejstvo KS (oslobađanje medijatora, histamina,teorija straha, </a:t>
            </a:r>
            <a:br>
              <a:rPr sz="18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neurovegetativne disfunkcije </a:t>
            </a:r>
            <a:br>
              <a:rPr sz="18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2. Toksično dejtsvo KS (hematotoskičnost, krvotok, bubrezi, C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S – materije koje unesene u organizam menjaju apsorpciju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X-zr.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– omogućen prikaz za Rtg filmu ili monitoru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ontrastna metoda – prikaz organa / delova organa primenom 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epen apsorpcije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X-zr.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sr-Latn-C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atomskog rednog broja elemnta (K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Negativna i pozitivna kontrastna sreds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1920" y="3808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Kontrastna sredstva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Kontrastna sredstva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2057400"/>
          <a:ext cx="7543800" cy="40384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Redni bro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ustoća g/cm</a:t>
                      </a:r>
                      <a:r>
                        <a:rPr b="0" lang="sr-Latn-CS" sz="2800" spc="-1" strike="noStrike" baseline="30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r>
                        <a:rPr b="0" lang="sr-Latn-C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 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vazdu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– 7.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ka tkiv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9-1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s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7-1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3-1.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0" lang="sr-Latn-C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rij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Negativna kontrastna sredst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422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asov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atomske t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i spec.gus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labija apsorpcija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X-z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azduh, O</a:t>
            </a:r>
            <a:r>
              <a:rPr b="0" lang="sr-Latn-C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, CO</a:t>
            </a:r>
            <a:r>
              <a:rPr b="0" lang="sr-Latn-C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irodan kontra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azduh – plu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Gas – digestivni trak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imena sa + 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7" descr="MI"/>
          <p:cNvPicPr/>
          <p:nvPr/>
        </p:nvPicPr>
        <p:blipFill>
          <a:blip r:embed="rId1"/>
          <a:stretch/>
        </p:blipFill>
        <p:spPr>
          <a:xfrm>
            <a:off x="4114800" y="1066680"/>
            <a:ext cx="480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9b"/>
          <p:cNvPicPr/>
          <p:nvPr/>
        </p:nvPicPr>
        <p:blipFill>
          <a:blip r:embed="rId1"/>
          <a:stretch/>
        </p:blipFill>
        <p:spPr>
          <a:xfrm>
            <a:off x="304920" y="380880"/>
            <a:ext cx="4647960" cy="454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neumoperitoneum"/>
          <p:cNvPicPr/>
          <p:nvPr/>
        </p:nvPicPr>
        <p:blipFill>
          <a:blip r:embed="rId2"/>
          <a:stretch/>
        </p:blipFill>
        <p:spPr>
          <a:xfrm>
            <a:off x="4495680" y="1676520"/>
            <a:ext cx="4376880" cy="4591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334120" y="914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periton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38080" y="5105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 Chilaidi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914400" y="4191120"/>
            <a:ext cx="0" cy="685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752480" y="4191120"/>
            <a:ext cx="0" cy="6858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leus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609480"/>
            <a:ext cx="4491000" cy="544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atomija COLON 1"/>
          <p:cNvPicPr/>
          <p:nvPr/>
        </p:nvPicPr>
        <p:blipFill>
          <a:blip r:embed="rId2"/>
          <a:stretch/>
        </p:blipFill>
        <p:spPr>
          <a:xfrm>
            <a:off x="4997520" y="609480"/>
            <a:ext cx="38415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Pozitivna kontrastna sredst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aterije sa elementima visokog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i gus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jačana apsorpcija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X-z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dela prema građi i namen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erastvorljiva K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– preledi GIT-a: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Barijum sulfat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uspenzija u H</a:t>
            </a:r>
            <a:r>
              <a:rPr b="0" lang="sr-Latn-C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 rastvoru. Bez komplikaci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 vodi rastvorljiva KS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– najraširenija grupa.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Jodni preparati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– prikaz organa, krvnih sudova, telesnih šupljina, žučnih kanala, urografija, kod CT-a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Uljana K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Limfografija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Ograničena primena: nestabilnost, spora eliminacija, opasnost od embolija. Primena kod embolizaci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Jodna kontrastna sredst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OD – čvrsto vezan u organskom molekulu - trijodbenz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 oslobađa se u organizmu, ne ulazi u metabol. proce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Joda u KS: od 280-370 mg/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Kationski + de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čine natrijum ili metilglukam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Anionski – de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 čine atomi Joda vezani za benzolov prs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S disocira u vodi: stvara + / - jone (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jonska KS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Urotropna (uroangiografska)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kontrastna sreds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Hepatotrop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kontrastna sreds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Uroangiografska kontrastna sredstv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S vezuju 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0% za albumine plaz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Jonska K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Nejonska KS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umesto kationa, vezana je nejonskim radikalima za ben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ki prsten (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↓ broj čestica u rastvoru, ↓ osmolalnost). U H</a:t>
            </a:r>
            <a:r>
              <a:rPr b="0" lang="sr-Latn-C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O rastvoru ne disocira, ostaje u molek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skom obliku. Bolja podnošljivost, manje neželjenih poj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Urotrakt, krvotok, zglobni prostor, likvorni prostor, telesne šupljine, fistule, izvođenje CT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Izlučivanje prekom bubrega glomer. filtracijoim, a vezani deo KS tubulskom sekrecijom.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8:30:27Z</dcterms:created>
  <dc:creator>Dragan Sagic</dc:creator>
  <dc:description/>
  <dc:language>en-US</dc:language>
  <cp:lastModifiedBy>Nikola Jagic</cp:lastModifiedBy>
  <dcterms:modified xsi:type="dcterms:W3CDTF">2009-03-13T10:04:11Z</dcterms:modified>
  <cp:revision>10</cp:revision>
  <dc:subject/>
  <dc:title>KONTRASTNA SREDSTVA</dc:title>
</cp:coreProperties>
</file>